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D7B-281A-4DF4-BEAE-FEA49948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F21-CFFC-42BE-8958-D8DD9D1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76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206-B8F0-4543-B6FC-8923F56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460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460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634-1E01-432F-986B-BD6E474E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C4A4-E72D-45CE-A311-AEEB40AC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F4F-4D63-446C-A693-F543BF7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B9C7-A8B1-4D10-AB22-9A5876B4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11B4-5709-4A0E-B24C-45A139BA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C2F6-D181-4DE5-9E5A-39FA212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162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C95-5C87-4575-BE0D-39E32CB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F5E4-52F3-4783-AD86-790C658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972-A54A-4AFC-A2FC-5436BAB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64D3-7BD5-4B51-B50E-7CD6348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B4C-6812-411D-9B0C-28F7877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4BF-8B5A-4877-91E4-E323CC6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8561-8C7C-44FA-9F80-7B5C8426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3712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87864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530-7B99-4BC9-BA58-4B352633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4F2-9A20-4CD9-8F90-CBAAC01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F2-7AB4-4490-8583-24862C2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948-4D16-46BF-B08E-723CFA6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162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359-9AAF-4B8B-988A-90C39CA1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A0D-2C44-4EFC-B249-EB1B579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760" y="38786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371-5E9C-4BCB-A676-8D9A56F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760" y="1371240"/>
            <a:ext cx="353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23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152-C23D-422D-B4C5-8CEA8A6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05D-D029-40F9-B590-3E5A6C17C1D7}" type="slidenum">
              <a:rPr b="0" lang="ar-SA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7B4-0B06-4F53-9330-2436953C0B4D}" type="slidenum">
              <a:rPr b="0" lang="ar-S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(Strengths, Weaknesses, Opportunities &amp; Threats)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ly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cecff"/>
              </a:solidFill>
              <a:latin typeface="Copperplate Gothic Light"/>
            </a:endParaRPr>
          </a:p>
        </p:txBody>
      </p:sp>
    </p:spTree>
  </p:cSld>
  <p:transition spd="med" advTm="12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pportuniti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e external environmental analysis may reveal certain new opportunities for profit and growth. Some examples of such opportunities include: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An unfulfilled customer need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Arrival of new technologies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oosening of regulations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Removal of international trade barrier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rea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hanges in the external environmental also may present threats to the firm. Some examples of such threats include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hifts in consumer tastes away from the firm's product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emergence of substitute product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new regulation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ncreased trade barrier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strips dir="l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SWOT Matri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 firm should not necessarily pursue the more lucrative opportunities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(overextending).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Rather, it may have a better chance at developing a competitive advantage by identifying a fit between the firm's strengths and upcoming opportunities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n some cases, the firm can overcome a weakness in order to prepare itself to pursue a compelling opportunity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strips dir="lu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 / TOWS Matri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o develop strategies that take into account the SWOT profile, a matrix of these factors can be constructed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e SWOT matrix, can be changed into what is known as the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OWS Matrix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that is shown on the next slide: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strips dir="rd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/ TOWS Matri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905120"/>
          <a:ext cx="7696080" cy="4389480"/>
        </p:xfrm>
        <a:graphic>
          <a:graphicData uri="http://schemas.openxmlformats.org/drawingml/2006/table">
            <a:tbl>
              <a:tblPr/>
              <a:tblGrid>
                <a:gridCol w="2743200"/>
                <a:gridCol w="220968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WS Analysis</a:t>
                      </a:r>
                      <a:endParaRPr b="0" lang="en-US" sz="36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Strengths</a:t>
                      </a:r>
                      <a:endParaRPr b="0" lang="en-US" sz="36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Weaknesses</a:t>
                      </a:r>
                      <a:endParaRPr b="0" lang="en-US" sz="36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Opportunities</a:t>
                      </a:r>
                      <a:endParaRPr b="0" lang="en-US" sz="36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-O Strategies</a:t>
                      </a:r>
                      <a:endParaRPr b="0" lang="en-US" sz="34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W-O Strategies</a:t>
                      </a:r>
                      <a:endParaRPr b="0" lang="en-US" sz="34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Threats</a:t>
                      </a:r>
                      <a:endParaRPr b="0" lang="en-US" sz="36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-T Strategies</a:t>
                      </a:r>
                      <a:endParaRPr b="0" lang="en-US" sz="34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W-T </a:t>
                      </a:r>
                      <a:endParaRPr b="0" lang="en-US" sz="34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trategies</a:t>
                      </a:r>
                      <a:endParaRPr b="0" lang="en-US" sz="3400" spc="-1" strike="noStrike">
                        <a:solidFill>
                          <a:srgbClr val="0066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plus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/ TOWS Matri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S-O strategies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pursue opportunities that  fit well the company's strengths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W-O strategies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overcome weaknesses to pursue opportunities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S-T strategies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identify ways that the firm can use its strengths to reduce its vulnerability to external threats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W-T strategies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make a defensive plan to prevent the firm's weaknesses from making it susceptible to external threats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pull dir="d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Interactio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4" name="Picture 4" descr="swot_all"/>
          <p:cNvPicPr/>
          <p:nvPr/>
        </p:nvPicPr>
        <p:blipFill>
          <a:blip r:embed="rId1"/>
          <a:srcRect l="0" t="0" r="27863" b="0"/>
          <a:stretch/>
        </p:blipFill>
        <p:spPr>
          <a:xfrm>
            <a:off x="152280" y="1312920"/>
            <a:ext cx="8839440" cy="5468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Analy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e SWOT Analysis framework is a very important and useful tool to use in marketing Management and other business applications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s a basic tool its mastery is a fundamental requirement for the marketer, entrepreneur or business person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 clear understanding of SWOT is required for business majors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d"/>
    <p:sndAc>
      <p:stSnd>
        <p:snd r:embed="rId1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What is a SWOT Analysis?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A scan of the internal and external environment is an important part of the strategic planning process.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Environmental factors internal to the firm usually can be classified as strengths (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) or weaknesses (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), and those external to the firm can be classified as opportunities (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) or threats (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uch an analysis of the strategic environment is referred to as a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WOT analysi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r"/>
    <p:sndAc>
      <p:stSnd>
        <p:snd r:embed="rId1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SWOT Matri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89" name="Picture 4" descr="swot"/>
          <p:cNvPicPr/>
          <p:nvPr/>
        </p:nvPicPr>
        <p:blipFill>
          <a:blip r:embed="rId1"/>
          <a:stretch/>
        </p:blipFill>
        <p:spPr>
          <a:xfrm>
            <a:off x="2133720" y="12193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WOT Analy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e SWOT analysis provides information that is helpful in matching the firm's resources and capabilities to the competitive environment in which it operates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s such, it is instrumental in strategy formulation and selection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e following diagram shows how a SWOT analysis fits into an environmental scan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r"/>
    <p:sndAc>
      <p:stSnd>
        <p:snd r:embed="rId1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SWOT Framework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SWOT Analysis Framework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Environmental Scan        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/                      \           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nternal Analysis      External Analysi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/    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\                  /              \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trengths Weaknesses      Opportunities   Threat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l"/>
    <p:sndAc>
      <p:stSnd>
        <p:snd r:embed="rId1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trength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 firm's strengths are its resources and capabilities that can be used for developing a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</a:rPr>
              <a:t>competitive advantage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. Examples of such strengths include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Patent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trong brand name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Good reputation among customer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ost advantages from proprietary know-how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Exclusive access to natural resource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Good access to distribution network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u"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eakness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e absence of certain strengths are a weakness. For example, the following may be considered weaknesses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Lack of patent protection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 weak brand name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Poor reputation among customer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High cost structure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Lack of access to best natural resource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Lack of access to key distribution channels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d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eaknesses - Continued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n some cases, a weakness may be the flip side of a strength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r example, a firm has a large amount of manufacturing capacity.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While this capacity may be considered a strength that competitors do not share, it also may be a considered a weakness if the large investment in manufacturing capacity prevents the firm from reacting quickly to changes in the strategic environment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 advTm="12000">
    <p:wipe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ght</cp:lastModifiedBy>
  <dcterms:modified xsi:type="dcterms:W3CDTF">2013-08-23T08:29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